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440-582C-4D68-8EF7-E7A4CCB5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1EE-FC34-427E-94F9-1D16A1A6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84B-4417-4C17-9304-814D436F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45A-6019-4F81-B5A2-E0EF8C74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578-6113-4D77-90B7-1AB66EA2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02E-1DCC-4759-B96B-8136795B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DF1-E88A-43D6-BA5C-AA79E37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3E6-2FCB-41FE-8F86-861CFA40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D93-791F-4EF8-9FD4-6D300406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DEB-97F5-4F3B-873E-0F075DD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4B9-9C28-43F2-BE40-5267FD9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D1A-4B3B-46AF-B6C0-BD0D7986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69FC-D2DD-4751-A4EE-41A22B184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u……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600" cy="4651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a 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afl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49:59Z</dcterms:created>
  <dc:creator>Alexandru B</dc:creator>
  <dc:description/>
  <dc:language>en-US</dc:language>
  <cp:lastModifiedBy>Carmen</cp:lastModifiedBy>
  <dcterms:modified xsi:type="dcterms:W3CDTF">2009-11-13T09:49:03Z</dcterms:modified>
  <cp:revision>6</cp:revision>
  <dc:subject/>
  <dc:title>Diagrama KVL</dc:title>
</cp:coreProperties>
</file>